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42CE-BE66-490E-BE4F-77136C51C5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6BB-40D4-4A7D-9FDB-86FE139FDA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4E4B-E89C-4428-B512-F0D76D5138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CB8-8A1A-41ED-90AC-C60223FAD8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A2BD-F838-483C-8ECF-E6F01B7DC6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F8CA-112D-4370-A0A7-84C4FBF521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1936-1A2D-49E3-912E-149EC40672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318D-E859-4C18-A4FB-61508CC887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642-5B1D-47E4-A000-19F1B230DB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D313-A985-4CBE-9E64-33DE35511F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FBC6-D2C8-4BE6-BCC2-58DEADF392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152-7445-4A92-9776-6ED4FC3BA2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D2B-BF7C-4B1B-B59F-F41A47DBEC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B699-D5C0-4526-A3C2-32E488C352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5AB-7654-4473-BD2C-5C2CEEB1D5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884-DEE2-4F5A-8846-CD4491EAE3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F45F-CBDB-4D86-AAE9-1BF066945B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5B7-D935-4E11-94ED-E98D827EBA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6FBB-4A05-44F2-8033-6A6191DAEC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E78E-4AF1-46C6-AB3E-5846C1DB08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7048-ED93-480C-BE6B-4AEADC86EE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93D-0FEC-4F13-8137-3A4A7AE5A9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CF59-6877-47BE-A824-7241FF3098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5FDD-59FB-4822-AB40-33A0325CB2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75A6-B188-4EDD-8700-5141DEF86F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F82B-ABDA-49E2-9772-6929EFD124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19C-9177-4422-A0AD-F39374FD9C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9E6C-D6EA-4FC1-867D-9E48D79072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04C8-FF99-46C2-8A9D-C079D3DF95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60EC-94D5-4FCD-9C6A-2A485F711D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630C-FF16-4EC4-AF29-5ABD638EF0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8627-9940-4A4E-9219-D1891D6D49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ADAC-3036-44AD-B7F8-F37914B737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0156-EFFC-4D08-A568-AD28C2DC9A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4A3-0E66-46F2-940A-F85866CFE8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71A8-0133-4690-8FD1-230BB1BA9E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4F96-991F-4231-9C0B-5BAB8361B8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08C7-781C-4D9C-9C69-A9F5312E9D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1E9B-E83A-4330-A569-E233A0DB7F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FB90-2397-47E3-843A-812EF7E588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F57-2906-4ADF-9C3B-F619D4D067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29A-0A80-4BEB-B012-082AABCF02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FDD0-C665-43C2-B0B6-1B871993AF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CD4-226D-457E-BD56-33E6EFBEA0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E1F-5D40-468C-ACAB-3086F8741C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80C2-DB23-4A78-A297-61B7F66355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122C-2964-416B-A179-69F1D847B1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87CC-0DA5-44A1-B725-6FBB8B1A80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4177-20B1-4644-A71A-2462A545C5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75E-3CB2-4A4B-81D9-DBC949DCCD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8F5-A01E-402C-8781-AB57558E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173-F819-496C-A0BE-990ACA5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DF1-F2F3-496B-96F4-C2F8C2F8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EED-6480-4312-935F-2A10B314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B5C-3813-4AF1-BC5B-FFAE88D6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5FF-90F0-4B73-B413-531E2A25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5D3-3BE0-4B48-A25C-0457445B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3E4-ABC7-4F50-87A8-2AA8264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114-F193-4572-94BC-1D34F3B7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F71-1C77-467B-8431-19C8370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1FE-0861-44CB-A997-F9F3FD7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CC7-DE7F-4F00-9F56-E82D93A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FC78-E71F-4FD3-A388-FF8F31E91D65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읽다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前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qián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저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f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출발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shē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어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越来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uèláiyuè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점점 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觉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ué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라고 느끼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通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ōngguò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를 통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反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ǎnf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반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水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ǐpí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提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íg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높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简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d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단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명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를 위하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目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ùbi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목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x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계속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령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头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uf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머리카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ngl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기 능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联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ánx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락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ùx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해서는 안 된다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g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런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抽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ōuyā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담배 피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批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īp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꾸짖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ǒ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알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ìfa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부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马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ǎshà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묻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平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íng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평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广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uǎngbō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라디오 방송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决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uéd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留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úx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학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外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ài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국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닫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부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ch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검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解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ěj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해결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结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éh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결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ngyì 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동의하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찬성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l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당기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끌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了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oj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해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팔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무서워하다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두려워하다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基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b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기조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特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èb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특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担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ānx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걱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互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ùxiā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6:40:12Z</dcterms:created>
  <dc:creator>System</dc:creator>
  <dc:description/>
  <dc:language>en-US</dc:language>
  <cp:lastModifiedBy>System</cp:lastModifiedBy>
  <dcterms:modified xsi:type="dcterms:W3CDTF">2014-01-27T07:32:33Z</dcterms:modified>
  <cp:revision>6</cp:revision>
  <dc:subject/>
  <dc:title>슬라이드 1</dc:title>
</cp:coreProperties>
</file>